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8828-2062-4712-A0C3-1070D1BFC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FA77-3682-49BD-9890-1DA3E167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0E29-8062-4B13-999A-5460CC005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41D8-9175-474E-A929-F8B158BAC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93F5-84C3-4DDF-8511-06E3CA40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064F-121E-410F-83AE-0FB44EB5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A552-5134-4B5F-BFE6-7F8F9FC1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1BE9-6A6E-4282-BAB0-DAF8A14E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A256-100B-4A63-8BB2-F5B78BFC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710A-A2DF-4A6C-8BAE-64A51F71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5D5C-44A5-4B5E-9D10-D35160E1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8C2C-F101-4DA2-B548-190E2521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362F-388C-4DC3-8A9D-2899BD4D3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ff3399"/>
                </a:solidFill>
                <a:latin typeface="Arial Black"/>
              </a:rPr>
              <a:t>Clowning Arou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y  Lucy   Harvey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201080" y="0"/>
            <a:ext cx="1942920" cy="2232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77960" cy="2273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5013360"/>
            <a:ext cx="1403280" cy="1844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164360" y="4724280"/>
            <a:ext cx="1979640" cy="2133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276720" y="0"/>
            <a:ext cx="1584360" cy="1844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3995640" y="5013360"/>
            <a:ext cx="1152720" cy="1844640"/>
          </a:xfrm>
          <a:prstGeom prst="rect">
            <a:avLst/>
          </a:prstGeom>
          <a:ln w="0">
            <a:noFill/>
          </a:ln>
        </p:spPr>
      </p:pic>
    </p:spTree>
  </p:cSld>
  <p:transition advTm="4000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I  put on my  red  bow-tie. Now I’m ready  for   the  circu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03280" y="40464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403280" y="4046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 advTm="4000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30560" y="1484280"/>
            <a:ext cx="1873080" cy="1297080"/>
          </a:xfrm>
          <a:prstGeom prst="cloudCallout">
            <a:avLst>
              <a:gd name="adj1" fmla="val 3476"/>
              <a:gd name="adj2" fmla="val 11199"/>
            </a:avLst>
          </a:prstGeom>
          <a:gradFill rotWithShape="0">
            <a:gsLst>
              <a:gs pos="0">
                <a:srgbClr val="f61228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2565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2997360"/>
            <a:ext cx="1871640" cy="1081080"/>
          </a:xfrm>
          <a:prstGeom prst="rect">
            <a:avLst/>
          </a:prstGeom>
          <a:gradFill rotWithShape="0">
            <a:gsLst>
              <a:gs pos="0">
                <a:srgbClr val="cc00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03640" y="2997360"/>
            <a:ext cx="863640" cy="287280"/>
          </a:xfrm>
          <a:prstGeom prst="rect">
            <a:avLst/>
          </a:prstGeom>
          <a:gradFill rotWithShape="0">
            <a:gsLst>
              <a:gs pos="0">
                <a:srgbClr val="cc00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40000" y="2997360"/>
            <a:ext cx="934920" cy="215640"/>
          </a:xfrm>
          <a:prstGeom prst="rect">
            <a:avLst/>
          </a:prstGeom>
          <a:gradFill rotWithShape="0">
            <a:gsLst>
              <a:gs pos="0">
                <a:srgbClr val="cc00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2360" y="1557360"/>
            <a:ext cx="1224000" cy="107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08360" y="692280"/>
            <a:ext cx="792360" cy="934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0"/>
            <a:ext cx="576000" cy="865080"/>
          </a:xfrm>
          <a:custGeom>
            <a:avLst/>
            <a:gdLst>
              <a:gd name="textAreaLeft" fmla="*/ 135360 w 576000"/>
              <a:gd name="textAreaRight" fmla="*/ 440280 w 576000"/>
              <a:gd name="textAreaTop" fmla="*/ 101520 h 865080"/>
              <a:gd name="textAreaBottom" fmla="*/ 542520 h 865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cc00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76720" y="4076640"/>
            <a:ext cx="288720" cy="2376720"/>
          </a:xfrm>
          <a:prstGeom prst="parallelogram">
            <a:avLst>
              <a:gd name="adj" fmla="val 25000"/>
            </a:avLst>
          </a:prstGeom>
          <a:solidFill>
            <a:srgbClr val="e66c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4076640"/>
            <a:ext cx="287280" cy="2376720"/>
          </a:xfrm>
          <a:prstGeom prst="parallelogram">
            <a:avLst>
              <a:gd name="adj" fmla="val 25000"/>
            </a:avLst>
          </a:prstGeom>
          <a:solidFill>
            <a:srgbClr val="e66c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60680" y="4084560"/>
            <a:ext cx="1660320" cy="1679760"/>
          </a:xfrm>
          <a:custGeom>
            <a:avLst/>
            <a:gdLst/>
            <a:ahLst/>
            <a:rect l="l" t="t" r="r" b="b"/>
            <a:pathLst>
              <a:path w="1046" h="1058">
                <a:moveTo>
                  <a:pt x="422" y="0"/>
                </a:moveTo>
                <a:cubicBezTo>
                  <a:pt x="441" y="90"/>
                  <a:pt x="416" y="59"/>
                  <a:pt x="384" y="153"/>
                </a:cubicBezTo>
                <a:cubicBezTo>
                  <a:pt x="374" y="182"/>
                  <a:pt x="372" y="214"/>
                  <a:pt x="355" y="240"/>
                </a:cubicBezTo>
                <a:cubicBezTo>
                  <a:pt x="336" y="269"/>
                  <a:pt x="332" y="273"/>
                  <a:pt x="317" y="307"/>
                </a:cubicBezTo>
                <a:cubicBezTo>
                  <a:pt x="313" y="316"/>
                  <a:pt x="313" y="328"/>
                  <a:pt x="307" y="336"/>
                </a:cubicBezTo>
                <a:cubicBezTo>
                  <a:pt x="273" y="386"/>
                  <a:pt x="266" y="345"/>
                  <a:pt x="240" y="422"/>
                </a:cubicBezTo>
                <a:cubicBezTo>
                  <a:pt x="230" y="452"/>
                  <a:pt x="228" y="460"/>
                  <a:pt x="211" y="489"/>
                </a:cubicBezTo>
                <a:cubicBezTo>
                  <a:pt x="199" y="509"/>
                  <a:pt x="181" y="525"/>
                  <a:pt x="173" y="547"/>
                </a:cubicBezTo>
                <a:cubicBezTo>
                  <a:pt x="170" y="557"/>
                  <a:pt x="167" y="567"/>
                  <a:pt x="163" y="576"/>
                </a:cubicBezTo>
                <a:cubicBezTo>
                  <a:pt x="151" y="602"/>
                  <a:pt x="135" y="626"/>
                  <a:pt x="125" y="653"/>
                </a:cubicBezTo>
                <a:cubicBezTo>
                  <a:pt x="105" y="710"/>
                  <a:pt x="101" y="762"/>
                  <a:pt x="57" y="806"/>
                </a:cubicBezTo>
                <a:cubicBezTo>
                  <a:pt x="46" y="843"/>
                  <a:pt x="33" y="876"/>
                  <a:pt x="19" y="912"/>
                </a:cubicBezTo>
                <a:cubicBezTo>
                  <a:pt x="12" y="931"/>
                  <a:pt x="0" y="969"/>
                  <a:pt x="0" y="969"/>
                </a:cubicBezTo>
                <a:cubicBezTo>
                  <a:pt x="11" y="1006"/>
                  <a:pt x="36" y="1016"/>
                  <a:pt x="77" y="1017"/>
                </a:cubicBezTo>
                <a:cubicBezTo>
                  <a:pt x="243" y="1023"/>
                  <a:pt x="410" y="1024"/>
                  <a:pt x="576" y="1027"/>
                </a:cubicBezTo>
                <a:cubicBezTo>
                  <a:pt x="635" y="1035"/>
                  <a:pt x="691" y="1046"/>
                  <a:pt x="749" y="1056"/>
                </a:cubicBezTo>
                <a:cubicBezTo>
                  <a:pt x="816" y="1053"/>
                  <a:pt x="884" y="1058"/>
                  <a:pt x="950" y="1046"/>
                </a:cubicBezTo>
                <a:cubicBezTo>
                  <a:pt x="973" y="1042"/>
                  <a:pt x="1008" y="1008"/>
                  <a:pt x="1008" y="1008"/>
                </a:cubicBezTo>
                <a:cubicBezTo>
                  <a:pt x="1014" y="995"/>
                  <a:pt x="1026" y="983"/>
                  <a:pt x="1027" y="969"/>
                </a:cubicBezTo>
                <a:cubicBezTo>
                  <a:pt x="1030" y="905"/>
                  <a:pt x="1046" y="829"/>
                  <a:pt x="1008" y="777"/>
                </a:cubicBezTo>
                <a:cubicBezTo>
                  <a:pt x="983" y="743"/>
                  <a:pt x="945" y="717"/>
                  <a:pt x="921" y="681"/>
                </a:cubicBezTo>
                <a:cubicBezTo>
                  <a:pt x="902" y="652"/>
                  <a:pt x="902" y="613"/>
                  <a:pt x="883" y="585"/>
                </a:cubicBezTo>
                <a:cubicBezTo>
                  <a:pt x="860" y="551"/>
                  <a:pt x="834" y="518"/>
                  <a:pt x="806" y="489"/>
                </a:cubicBezTo>
                <a:cubicBezTo>
                  <a:pt x="802" y="421"/>
                  <a:pt x="798" y="216"/>
                  <a:pt x="758" y="144"/>
                </a:cubicBezTo>
                <a:cubicBezTo>
                  <a:pt x="733" y="99"/>
                  <a:pt x="719" y="63"/>
                  <a:pt x="672" y="48"/>
                </a:cubicBezTo>
                <a:cubicBezTo>
                  <a:pt x="640" y="27"/>
                  <a:pt x="643" y="41"/>
                  <a:pt x="643" y="19"/>
                </a:cubicBezTo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99120" y="3994200"/>
            <a:ext cx="1650960" cy="1719360"/>
          </a:xfrm>
          <a:custGeom>
            <a:avLst/>
            <a:gdLst/>
            <a:ahLst/>
            <a:rect l="l" t="t" r="r" b="b"/>
            <a:pathLst>
              <a:path w="1040" h="1083">
                <a:moveTo>
                  <a:pt x="210" y="95"/>
                </a:moveTo>
                <a:cubicBezTo>
                  <a:pt x="144" y="140"/>
                  <a:pt x="211" y="84"/>
                  <a:pt x="172" y="220"/>
                </a:cubicBezTo>
                <a:cubicBezTo>
                  <a:pt x="168" y="233"/>
                  <a:pt x="153" y="239"/>
                  <a:pt x="143" y="249"/>
                </a:cubicBezTo>
                <a:cubicBezTo>
                  <a:pt x="106" y="407"/>
                  <a:pt x="135" y="368"/>
                  <a:pt x="114" y="652"/>
                </a:cubicBezTo>
                <a:cubicBezTo>
                  <a:pt x="113" y="672"/>
                  <a:pt x="95" y="710"/>
                  <a:pt x="95" y="710"/>
                </a:cubicBezTo>
                <a:cubicBezTo>
                  <a:pt x="88" y="851"/>
                  <a:pt x="106" y="900"/>
                  <a:pt x="18" y="988"/>
                </a:cubicBezTo>
                <a:cubicBezTo>
                  <a:pt x="0" y="1047"/>
                  <a:pt x="64" y="1044"/>
                  <a:pt x="114" y="1046"/>
                </a:cubicBezTo>
                <a:cubicBezTo>
                  <a:pt x="277" y="1051"/>
                  <a:pt x="441" y="1052"/>
                  <a:pt x="604" y="1055"/>
                </a:cubicBezTo>
                <a:cubicBezTo>
                  <a:pt x="702" y="1081"/>
                  <a:pt x="693" y="1083"/>
                  <a:pt x="863" y="1055"/>
                </a:cubicBezTo>
                <a:cubicBezTo>
                  <a:pt x="874" y="1053"/>
                  <a:pt x="875" y="1035"/>
                  <a:pt x="882" y="1026"/>
                </a:cubicBezTo>
                <a:cubicBezTo>
                  <a:pt x="901" y="1003"/>
                  <a:pt x="902" y="1007"/>
                  <a:pt x="930" y="998"/>
                </a:cubicBezTo>
                <a:cubicBezTo>
                  <a:pt x="966" y="973"/>
                  <a:pt x="992" y="938"/>
                  <a:pt x="1017" y="902"/>
                </a:cubicBezTo>
                <a:cubicBezTo>
                  <a:pt x="1032" y="835"/>
                  <a:pt x="1040" y="807"/>
                  <a:pt x="1017" y="738"/>
                </a:cubicBezTo>
                <a:cubicBezTo>
                  <a:pt x="1007" y="708"/>
                  <a:pt x="959" y="662"/>
                  <a:pt x="959" y="662"/>
                </a:cubicBezTo>
                <a:cubicBezTo>
                  <a:pt x="948" y="603"/>
                  <a:pt x="918" y="560"/>
                  <a:pt x="892" y="508"/>
                </a:cubicBezTo>
                <a:cubicBezTo>
                  <a:pt x="856" y="434"/>
                  <a:pt x="824" y="366"/>
                  <a:pt x="767" y="306"/>
                </a:cubicBezTo>
                <a:cubicBezTo>
                  <a:pt x="753" y="261"/>
                  <a:pt x="717" y="215"/>
                  <a:pt x="671" y="201"/>
                </a:cubicBezTo>
                <a:cubicBezTo>
                  <a:pt x="661" y="195"/>
                  <a:pt x="649" y="191"/>
                  <a:pt x="642" y="182"/>
                </a:cubicBezTo>
                <a:cubicBezTo>
                  <a:pt x="618" y="149"/>
                  <a:pt x="610" y="94"/>
                  <a:pt x="575" y="66"/>
                </a:cubicBezTo>
                <a:cubicBezTo>
                  <a:pt x="492" y="0"/>
                  <a:pt x="575" y="89"/>
                  <a:pt x="537" y="47"/>
                </a:cubicBezTo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32480" y="4054320"/>
            <a:ext cx="222120" cy="106560"/>
          </a:xfrm>
          <a:custGeom>
            <a:avLst/>
            <a:gdLst/>
            <a:ahLst/>
            <a:rect l="l" t="t" r="r" b="b"/>
            <a:pathLst>
              <a:path w="140" h="67">
                <a:moveTo>
                  <a:pt x="0" y="67"/>
                </a:moveTo>
                <a:cubicBezTo>
                  <a:pt x="33" y="56"/>
                  <a:pt x="63" y="37"/>
                  <a:pt x="96" y="28"/>
                </a:cubicBezTo>
                <a:cubicBezTo>
                  <a:pt x="109" y="24"/>
                  <a:pt x="125" y="28"/>
                  <a:pt x="135" y="19"/>
                </a:cubicBezTo>
                <a:cubicBezTo>
                  <a:pt x="140" y="14"/>
                  <a:pt x="128" y="6"/>
                  <a:pt x="12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0160" y="4038480"/>
            <a:ext cx="166680" cy="152640"/>
          </a:xfrm>
          <a:custGeom>
            <a:avLst/>
            <a:gdLst/>
            <a:ahLst/>
            <a:rect l="l" t="t" r="r" b="b"/>
            <a:pathLst>
              <a:path w="105" h="96">
                <a:moveTo>
                  <a:pt x="0" y="96"/>
                </a:moveTo>
                <a:cubicBezTo>
                  <a:pt x="19" y="93"/>
                  <a:pt x="39" y="93"/>
                  <a:pt x="57" y="86"/>
                </a:cubicBezTo>
                <a:cubicBezTo>
                  <a:pt x="90" y="74"/>
                  <a:pt x="84" y="23"/>
                  <a:pt x="10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08360" y="1773360"/>
            <a:ext cx="71640" cy="142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84720" y="1773360"/>
            <a:ext cx="71280" cy="142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3708000" y="2060640"/>
            <a:ext cx="647640" cy="5047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e66c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59280" y="6237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5292720" y="5876640"/>
            <a:ext cx="2872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580000" y="587664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050920" y="6381720"/>
            <a:ext cx="1441440" cy="28728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40000" y="6165720"/>
            <a:ext cx="21600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556000" y="5950080"/>
            <a:ext cx="2156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24360" y="1989000"/>
            <a:ext cx="216000" cy="216000"/>
          </a:xfrm>
          <a:prstGeom prst="ellipse">
            <a:avLst/>
          </a:prstGeom>
          <a:solidFill>
            <a:srgbClr val="f612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Clowns  are   always   funn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  think  clowns  are   always    funny   because  they   have  funny   clot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cc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8424720" cy="6597720"/>
          </a:xfrm>
          <a:prstGeom prst="cloudCallout">
            <a:avLst>
              <a:gd name="adj1" fmla="val -2967"/>
              <a:gd name="adj2" fmla="val -5171"/>
            </a:avLst>
          </a:prstGeom>
          <a:gradFill rotWithShape="0">
            <a:gsLst>
              <a:gs pos="0">
                <a:srgbClr val="3366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16360" y="1484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66"/>
                </a:solidFill>
                <a:latin typeface="Blackadder ITC"/>
              </a:rPr>
              <a:t>jug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64000" y="357336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ff3399"/>
                </a:solidFill>
                <a:latin typeface="Bradley Hand ITC"/>
              </a:rPr>
              <a:t>jugg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3645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9900"/>
                </a:solidFill>
                <a:latin typeface="Bradley Hand ITC"/>
              </a:rPr>
              <a:t>jug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79640" y="1916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993300"/>
                </a:solidFill>
                <a:latin typeface="Bradley Hand ITC"/>
              </a:rPr>
              <a:t>jug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80000" y="227664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0066"/>
                </a:solidFill>
                <a:latin typeface="Blackadder ITC"/>
              </a:rPr>
              <a:t>Jo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00360" y="83664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99ff99"/>
                </a:solidFill>
                <a:latin typeface="Bradley Hand ITC"/>
              </a:rPr>
              <a:t>Beeping  sh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227640" y="3860640"/>
            <a:ext cx="12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cc00cc"/>
                </a:solidFill>
                <a:latin typeface="Bradley Hand ITC"/>
              </a:rPr>
              <a:t>Red  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954920" y="46512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00cc"/>
                </a:solidFill>
                <a:latin typeface="Blackadder ITC"/>
              </a:rPr>
              <a:t>Red  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3280" y="443700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cc00cc"/>
                </a:solidFill>
                <a:latin typeface="Bradley Hand ITC"/>
              </a:rPr>
              <a:t>tro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306864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00cc"/>
                </a:solidFill>
                <a:latin typeface="Blackadder ITC"/>
              </a:rPr>
              <a:t>Red  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I  put  on my  red  no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63640" y="765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 advTm="4000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I put on  my  eye brow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 advTm="4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I put my yellow and orange fuzzy  wig  o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 advTm="4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I  put  on  my  silly  willy  ey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692360" y="62064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 advTm="4000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I  put  on  my  white  make-u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35280" y="83664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 advTm="4000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I  put  on  my   lipstic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76360" y="33336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 advTm="4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1:54:28Z</dcterms:created>
  <dc:creator>newerait</dc:creator>
  <dc:description/>
  <dc:language>en-US</dc:language>
  <cp:lastModifiedBy>newerait</cp:lastModifiedBy>
  <dcterms:modified xsi:type="dcterms:W3CDTF">2010-08-11T20:53:17Z</dcterms:modified>
  <cp:revision>8</cp:revision>
  <dc:subject/>
  <dc:title>Clowning Around</dc:title>
</cp:coreProperties>
</file>